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F791-3343-4A13-855B-3F15F3E2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EE7E-74C9-48FC-951F-67DC4114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356-C8B1-4AA4-9100-34EED1E5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62C-89DD-4F55-AADA-A97C655C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A873-9D9E-40D8-A86F-7034180E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E2F3-D100-4533-9B57-C60A3C8E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54D1-F294-4F1D-8B80-9B4B39F1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69C3-3817-4385-9A82-F6B66AF5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F420-CC81-42C1-8BB2-DB7A93C4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BEC8-BEBB-4BD1-BC16-CCA369AE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5672-5202-4491-AC75-84C336EE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D3D-32ED-4FE4-8023-96CDAFB8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A177-F4D9-47B1-B369-3306EF48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8A28-C396-435D-98AA-C5D28F8D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0D42-855D-4EE9-B516-54D27706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140E-0177-4215-832B-8F06FD14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2FA0-072E-4431-B611-DA47C92E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516CF-20F2-4B49-B03A-EF0C0FFA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2E414-1349-48F6-BD0C-7C30D7AA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9E112-F385-49BF-AC0B-DD3394E2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26521-F3EC-43AD-A2CA-AF2D2D43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D3590-5872-4BF2-BEAC-F978AFED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D73-57FC-41F3-990C-9472331D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00212-AFA1-4879-AB64-9EF44988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5D372-0B3B-4B51-98CC-762E6AD0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75766-1B1A-45EE-BA2A-35EF713B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5FD19-9FB0-4730-BF25-84E656AB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A415E-50EB-4666-A138-17114D38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9B160-ADDB-4755-9B39-6A5D48B3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0CCAC-30C2-402C-B95E-AEC727C7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13F64-4922-4299-B664-50913F8D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8CB74-0DC4-4FAD-8CBD-42416A49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5F27C-D5FA-431F-A0C7-365DCB54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70C-D234-4F24-8C49-CAD96CF1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FADEA-2FB8-4712-ACA4-049CE22F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8C683-8FDD-4E50-AC3D-190A469A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5F2A7-1416-4819-87B5-14D8BD81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E459F-FEAA-4E0C-BED8-FB1115E6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CC87D-7BF5-43E8-8ED1-C3FC1D53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009C7-5410-44E4-85E0-55E6F725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9668F-D986-4139-B8E9-5D41B1A3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3CBC7-D16F-4831-83FB-57287801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1F229-BF75-4AA6-86F2-A9656B8E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4E6-336F-41C6-B590-0F50915E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369-FA8E-41AB-9F29-E35A36ED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C0C-C0D4-4C78-A196-4C0B4C94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0DD9-5D54-4B03-8545-8DC7822F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81F-9B34-40A2-B15E-49E9929B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B2A5-F017-4382-9171-333B0C338AD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6F1A-B7F7-4DDB-8D41-05B355ABED8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56EF-AFE9-42EF-BA61-D42267AE1185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5117-39E3-41DC-94C6-669E8AF3AB45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371240" y="4038480"/>
            <a:ext cx="56372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745"/>
                </a:solidFill>
                <a:latin typeface="Trebuchet MS"/>
              </a:rPr>
              <a:t>Manufacturing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212760" y="1530360"/>
            <a:ext cx="7656480" cy="3432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1785960" y="3724200"/>
            <a:ext cx="7169040" cy="37242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457200" y="5335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Kareem is the only one who has an in depth understanding of the troubleshooting the syste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Accountability and Adaptability 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Creativity and Intellectual Curiosity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06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Problem Identification, Formulation and Solution 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33520" y="121896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04040"/>
                </a:solidFill>
                <a:latin typeface="Tw Cen MT"/>
              </a:rPr>
              <a:t>Self-Direction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533520" y="1143000"/>
            <a:ext cx="7772400" cy="26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8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Tw Cen MT"/>
              </a:rPr>
              <a:t>Social Responsibility</a:t>
            </a:r>
            <a:endParaRPr b="0" lang="en-US" sz="7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06:48:18Z</dcterms:created>
  <dc:creator>cay</dc:creator>
  <dc:description/>
  <dc:language>en-US</dc:language>
  <cp:lastModifiedBy>ella</cp:lastModifiedBy>
  <dcterms:modified xsi:type="dcterms:W3CDTF">2012-07-04T13:32:12Z</dcterms:modified>
  <cp:revision>10</cp:revision>
  <dc:subject/>
  <dc:title>Scenario - 2</dc:title>
</cp:coreProperties>
</file>